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079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483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79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400" y="4079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0800" y="1483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3240" y="1483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079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0800" y="4079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3240" y="4079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400" y="1483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188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483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079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83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400" y="4079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83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079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83920"/>
            <a:ext cx="8229600" cy="4969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74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17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539640" y="6521400"/>
            <a:ext cx="20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R Hipk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22.08.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Reduced Logo"/>
          <p:cNvPicPr/>
          <p:nvPr/>
        </p:nvPicPr>
        <p:blipFill>
          <a:blip r:embed="rId2"/>
          <a:stretch/>
        </p:blipFill>
        <p:spPr>
          <a:xfrm>
            <a:off x="0" y="6531120"/>
            <a:ext cx="503280" cy="3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9"/>
          <p:cNvSpPr/>
          <p:nvPr/>
        </p:nvSpPr>
        <p:spPr>
          <a:xfrm>
            <a:off x="468360" y="260280"/>
            <a:ext cx="8183520" cy="6048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11"/>
          <p:cNvSpPr/>
          <p:nvPr/>
        </p:nvSpPr>
        <p:spPr>
          <a:xfrm>
            <a:off x="468360" y="5084640"/>
            <a:ext cx="818352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852720" y="5227560"/>
            <a:ext cx="4751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osemary Hipk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ew Zealand Council for Education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olourlogoPPT"/>
          <p:cNvPicPr/>
          <p:nvPr/>
        </p:nvPicPr>
        <p:blipFill>
          <a:blip r:embed="rId1"/>
          <a:stretch/>
        </p:blipFill>
        <p:spPr>
          <a:xfrm>
            <a:off x="468360" y="5135400"/>
            <a:ext cx="3287520" cy="1173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Key competencies in the curriculum: reflecting on implementation and assessment challeng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321300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presentation to the Canterbury Primary Principals, Christchurch, Thursday August 22, 200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539640" y="476280"/>
            <a:ext cx="8305920" cy="6381360"/>
            <a:chOff x="539640" y="476280"/>
            <a:chExt cx="8305920" cy="6381360"/>
          </a:xfrm>
        </p:grpSpPr>
        <p:sp>
          <p:nvSpPr>
            <p:cNvPr id="97" name="Oval 3"/>
            <p:cNvSpPr/>
            <p:nvPr/>
          </p:nvSpPr>
          <p:spPr>
            <a:xfrm>
              <a:off x="539640" y="476280"/>
              <a:ext cx="8153280" cy="638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4"/>
            <p:cNvSpPr/>
            <p:nvPr/>
          </p:nvSpPr>
          <p:spPr>
            <a:xfrm>
              <a:off x="4630680" y="1263600"/>
              <a:ext cx="0" cy="461304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2292120" y="3542400"/>
              <a:ext cx="4496040" cy="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1887480" y="2050560"/>
              <a:ext cx="251460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c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000000"/>
                  </a:solidFill>
                  <a:latin typeface="Arial"/>
                </a:rPr>
                <a:t>Learning area  content x 8 lev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5084640" y="2050560"/>
              <a:ext cx="342540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c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 more holistic curricul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Integration, inquiry learning)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734760" y="3293640"/>
              <a:ext cx="1633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No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6848280" y="3293640"/>
              <a:ext cx="1997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High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2673360" y="788400"/>
              <a:ext cx="3909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Learner 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2597040" y="5837400"/>
              <a:ext cx="463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Learner Trans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2268720" y="4371480"/>
              <a:ext cx="183132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c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earning 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kills x 8 lev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4938120" y="4371480"/>
              <a:ext cx="332172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c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000000"/>
                  </a:solidFill>
                  <a:latin typeface="Arial"/>
                </a:rPr>
                <a:t>Vision, values and princip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15"/>
          <p:cNvSpPr/>
          <p:nvPr/>
        </p:nvSpPr>
        <p:spPr>
          <a:xfrm>
            <a:off x="2340000" y="1773360"/>
            <a:ext cx="4464000" cy="35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Arial"/>
              </a:rPr>
              <a:t>Might key competencies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Arial"/>
              </a:rPr>
              <a:t>the “glue” that brings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Arial"/>
              </a:rPr>
              <a:t>these pieces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Grain image"/>
          <p:cNvPicPr/>
          <p:nvPr/>
        </p:nvPicPr>
        <p:blipFill>
          <a:blip r:embed="rId1"/>
          <a:stretch/>
        </p:blipFill>
        <p:spPr>
          <a:xfrm>
            <a:off x="2916360" y="1341360"/>
            <a:ext cx="3456000" cy="5516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6372360" y="1341360"/>
            <a:ext cx="2771640" cy="5516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Key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language, symbols and 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ng and contrib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ng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1341360"/>
            <a:ext cx="2987640" cy="5516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felong learners (vis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te and num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and creative thin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seekers, users, and creators of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ed decision 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411280" y="18900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to learn (a princi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DucklingsSnow: Ducklings watch as their leader tries to climb a snow-covered curb"/>
          <p:cNvPicPr/>
          <p:nvPr/>
        </p:nvPicPr>
        <p:blipFill>
          <a:blip r:embed="rId2"/>
          <a:stretch/>
        </p:blipFill>
        <p:spPr>
          <a:xfrm>
            <a:off x="179280" y="115920"/>
            <a:ext cx="2016360" cy="111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7236000" y="0"/>
            <a:ext cx="9316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33cc"/>
                </a:solidFill>
                <a:latin typeface="Arial"/>
              </a:rPr>
              <a:t>Why focus on key competencies?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7056360" cy="4969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tudents’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learning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eeds are fore-gro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Helping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child to become a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 better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stering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via a focus on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dis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focus on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identity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nd the development of personal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Helping students prepare for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this centur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not the last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7596360" y="1557360"/>
            <a:ext cx="1417320" cy="201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7596360" y="3860640"/>
            <a:ext cx="142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900000" y="476280"/>
            <a:ext cx="7417080" cy="611964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3924360" y="155736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2340000" y="42926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076720" y="62064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"/>
          <p:cNvSpPr/>
          <p:nvPr/>
        </p:nvSpPr>
        <p:spPr>
          <a:xfrm>
            <a:off x="-73080" y="1244520"/>
            <a:ext cx="3997440" cy="5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"/>
          <p:cNvSpPr/>
          <p:nvPr/>
        </p:nvSpPr>
        <p:spPr>
          <a:xfrm>
            <a:off x="5292720" y="1089000"/>
            <a:ext cx="3840120" cy="63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886320" y="352440"/>
            <a:ext cx="6837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hanges the key competencies can make are a bit like an ice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612520" y="5032440"/>
            <a:ext cx="408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ransformative changes run very d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476360" y="1341360"/>
            <a:ext cx="6307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nearer the tip, the more obvious the potential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cc"/>
                </a:solidFill>
                <a:latin typeface="Arial"/>
              </a:rPr>
              <a:t>Where on the iceberg would you put these questions to ask while reading?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969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s this text well writte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ich voices, and interests are silent or absent from this tex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does the author believe is import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are my assumptions as I read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s the author attempting to manipulate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is the purpose of this particular style of writing?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cc"/>
                </a:solidFill>
                <a:latin typeface="Arial"/>
              </a:rPr>
              <a:t>The nature of our national curriculu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5472360" cy="4969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framework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for learning from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year 1 to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year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sets the direction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for learning but schools are expected to modify their plans to meet the needs of their own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response to learning challenges in the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21</a:t>
            </a:r>
            <a:r>
              <a:rPr b="1" lang="en-NZ" sz="2000" spc="-1" strike="noStrike" baseline="30000">
                <a:solidFill>
                  <a:srgbClr val="ff3300"/>
                </a:solidFill>
                <a:latin typeface="Arial"/>
              </a:rPr>
              <a:t>st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centur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(both in NZ and internation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32194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cc"/>
                </a:solidFill>
                <a:latin typeface="Arial"/>
              </a:rPr>
              <a:t>Implementing NZC: the big pictur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3097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has changed from the previous curriculum? (in “spirit” rather than in details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at messages about the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learning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that matters should we take from the “front end” of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The New Zealand Curriculum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y has the curriculum been developed this way at this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50920" y="5013360"/>
            <a:ext cx="8445240" cy="1191240"/>
          </a:xfrm>
          <a:prstGeom prst="rect">
            <a:avLst/>
          </a:prstGeom>
          <a:solidFill>
            <a:srgbClr val="fa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ow did you answer these questio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ould others in your wider school community answer the same way? Why or why not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33cc"/>
                </a:solidFill>
                <a:latin typeface="Arial"/>
              </a:rPr>
              <a:t>The spirit of change in NZC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6769080" cy="48974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earning how to learn – developing an identity as a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‘lifelong learner’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and a greater emphasis on developing student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autonom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School-based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urriculum design is more explicit and linked to NA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12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more holistic approach –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interconnected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nature of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more 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participatory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view of learning and teaching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chool_curriculum_cover_art"/>
          <p:cNvPicPr/>
          <p:nvPr/>
        </p:nvPicPr>
        <p:blipFill>
          <a:blip r:embed="rId1"/>
          <a:stretch/>
        </p:blipFill>
        <p:spPr>
          <a:xfrm>
            <a:off x="7277040" y="1557360"/>
            <a:ext cx="1692360" cy="23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framework1"/>
          <p:cNvPicPr/>
          <p:nvPr/>
        </p:nvPicPr>
        <p:blipFill>
          <a:blip r:embed="rId2"/>
          <a:stretch/>
        </p:blipFill>
        <p:spPr>
          <a:xfrm>
            <a:off x="7308720" y="4292640"/>
            <a:ext cx="1665360" cy="1361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7795800" y="3881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886880" y="5661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.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Your school’s implementation journey so far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184720" cy="4969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(if any) of these NZC directions have been in your school’s sights during your shared professional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ve been your most important insights,  breakthroughs and suc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relationship between the key competencies and other “big picture” messages in the front end of NZ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508720" y="1557360"/>
            <a:ext cx="3313080" cy="3111480"/>
          </a:xfrm>
          <a:prstGeom prst="rect">
            <a:avLst/>
          </a:prstGeom>
          <a:solidFill>
            <a:srgbClr val="fa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rning to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chool-based curriculu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terconnected nature of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rning as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ther key messages…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DucklingsSnow: Ducklings watch as their leader tries to climb a snow-covered curb"/>
          <p:cNvPicPr/>
          <p:nvPr/>
        </p:nvPicPr>
        <p:blipFill>
          <a:blip r:embed="rId1"/>
          <a:stretch/>
        </p:blipFill>
        <p:spPr>
          <a:xfrm>
            <a:off x="5580000" y="4724280"/>
            <a:ext cx="32400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ur curriculum interpretation depends on many factor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969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 think learning is for and what sorts of outcomes we value for ou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sorts of outcomes we think our school and school community really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 think about how the act of learning happens, as well as our personal theories of knowledge and of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sense of what the future will be like, and of our responsibilities to help shap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250920" y="990720"/>
            <a:ext cx="8305200" cy="5867280"/>
            <a:chOff x="250920" y="990720"/>
            <a:chExt cx="8305200" cy="5867280"/>
          </a:xfrm>
        </p:grpSpPr>
        <p:sp>
          <p:nvSpPr>
            <p:cNvPr id="65" name="Oval 3"/>
            <p:cNvSpPr/>
            <p:nvPr/>
          </p:nvSpPr>
          <p:spPr>
            <a:xfrm>
              <a:off x="250920" y="990720"/>
              <a:ext cx="8152920" cy="586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4"/>
            <p:cNvSpPr/>
            <p:nvPr/>
          </p:nvSpPr>
          <p:spPr>
            <a:xfrm>
              <a:off x="4341600" y="1714680"/>
              <a:ext cx="0" cy="424152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5"/>
            <p:cNvSpPr/>
            <p:nvPr/>
          </p:nvSpPr>
          <p:spPr>
            <a:xfrm>
              <a:off x="2003040" y="3809880"/>
              <a:ext cx="4495680" cy="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1598400" y="2438280"/>
              <a:ext cx="25142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ocus on “getting” traditional 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4786560" y="2438280"/>
              <a:ext cx="28810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reating and using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t just getting knowledg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8"/>
            <p:cNvSpPr/>
            <p:nvPr/>
          </p:nvSpPr>
          <p:spPr>
            <a:xfrm>
              <a:off x="445680" y="3581280"/>
              <a:ext cx="1633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No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9"/>
            <p:cNvSpPr/>
            <p:nvPr/>
          </p:nvSpPr>
          <p:spPr>
            <a:xfrm>
              <a:off x="6559200" y="3581280"/>
              <a:ext cx="1996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High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2384280" y="1278000"/>
              <a:ext cx="3909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Learner 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2307960" y="5919840"/>
              <a:ext cx="4636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Learner Trans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2"/>
            <p:cNvSpPr/>
            <p:nvPr/>
          </p:nvSpPr>
          <p:spPr>
            <a:xfrm>
              <a:off x="1967760" y="4572000"/>
              <a:ext cx="18770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arning gener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ki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3"/>
            <p:cNvSpPr/>
            <p:nvPr/>
          </p:nvSpPr>
          <p:spPr>
            <a:xfrm>
              <a:off x="4633560" y="4572000"/>
              <a:ext cx="1789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arning to “b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14"/>
          <p:cNvSpPr/>
          <p:nvPr/>
        </p:nvSpPr>
        <p:spPr>
          <a:xfrm>
            <a:off x="0" y="228600"/>
            <a:ext cx="9144000" cy="762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Learning for an unknown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6588000" y="6021360"/>
            <a:ext cx="223200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Barnett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539640" y="990720"/>
            <a:ext cx="8305920" cy="5867280"/>
            <a:chOff x="539640" y="990720"/>
            <a:chExt cx="8305920" cy="5867280"/>
          </a:xfrm>
        </p:grpSpPr>
        <p:sp>
          <p:nvSpPr>
            <p:cNvPr id="79" name="Oval 3"/>
            <p:cNvSpPr/>
            <p:nvPr/>
          </p:nvSpPr>
          <p:spPr>
            <a:xfrm>
              <a:off x="539640" y="990720"/>
              <a:ext cx="8153280" cy="586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4"/>
            <p:cNvSpPr/>
            <p:nvPr/>
          </p:nvSpPr>
          <p:spPr>
            <a:xfrm>
              <a:off x="4630680" y="1714680"/>
              <a:ext cx="0" cy="424152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5"/>
            <p:cNvSpPr/>
            <p:nvPr/>
          </p:nvSpPr>
          <p:spPr>
            <a:xfrm>
              <a:off x="2292120" y="3809880"/>
              <a:ext cx="4496040" cy="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1887480" y="2438280"/>
              <a:ext cx="251460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c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000000"/>
                  </a:solidFill>
                  <a:latin typeface="Arial"/>
                </a:rPr>
                <a:t>Learning area  content x 8 lev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7"/>
            <p:cNvSpPr/>
            <p:nvPr/>
          </p:nvSpPr>
          <p:spPr>
            <a:xfrm>
              <a:off x="5084640" y="2438280"/>
              <a:ext cx="342540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c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 more holistic curricul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integration, inquiry learning)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734760" y="3581280"/>
              <a:ext cx="1633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No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"/>
            <p:cNvSpPr/>
            <p:nvPr/>
          </p:nvSpPr>
          <p:spPr>
            <a:xfrm>
              <a:off x="6848280" y="3581280"/>
              <a:ext cx="1997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High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0"/>
            <p:cNvSpPr/>
            <p:nvPr/>
          </p:nvSpPr>
          <p:spPr>
            <a:xfrm>
              <a:off x="2673360" y="1278000"/>
              <a:ext cx="3909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Learner 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2597040" y="5919840"/>
              <a:ext cx="463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 Black"/>
                </a:rPr>
                <a:t>Learner Trans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2268720" y="4572000"/>
              <a:ext cx="183132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c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earning 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kills x 8 lev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3"/>
            <p:cNvSpPr/>
            <p:nvPr/>
          </p:nvSpPr>
          <p:spPr>
            <a:xfrm>
              <a:off x="4938120" y="4572000"/>
              <a:ext cx="332172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c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800" spc="-1" strike="noStrike">
                  <a:solidFill>
                    <a:srgbClr val="000000"/>
                  </a:solidFill>
                  <a:latin typeface="Arial"/>
                </a:rPr>
                <a:t>Vision, values and princip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4"/>
          <p:cNvSpPr/>
          <p:nvPr/>
        </p:nvSpPr>
        <p:spPr>
          <a:xfrm>
            <a:off x="0" y="228600"/>
            <a:ext cx="9144000" cy="762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33cc"/>
                </a:solidFill>
                <a:latin typeface="Arial"/>
              </a:rPr>
              <a:t>Match to curriculum asp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6588000" y="6021360"/>
            <a:ext cx="223200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Barnett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17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hat sort of people do we want our kids to be?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59480" y="1483920"/>
            <a:ext cx="4038480" cy="4969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ly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s in a range of life contex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tors to the well-being of New Zealand – social, cultural, economic, and environmen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elong lea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terate and numer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and creative think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seekers, users, and creators of knowled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ed decision 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60" y="1483920"/>
            <a:ext cx="4038480" cy="4969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in their own 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ed and reli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fu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ing and entrepreneuri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l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e to relate well to oth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users of communication too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 to the land and environ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of commun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citiz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767120" y="5969160"/>
            <a:ext cx="3908520" cy="398880"/>
          </a:xfrm>
          <a:prstGeom prst="rect">
            <a:avLst/>
          </a:prstGeom>
          <a:solidFill>
            <a:srgbClr val="fa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ource: NZC Vision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1:03:00Z</dcterms:created>
  <dc:creator>Rosemary Hipkins</dc:creator>
  <dc:description/>
  <dc:language>en-US</dc:language>
  <cp:lastModifiedBy>Ministry of Education</cp:lastModifiedBy>
  <cp:lastPrinted>2006-08-11T04:32:15Z</cp:lastPrinted>
  <dcterms:modified xsi:type="dcterms:W3CDTF">2008-08-26T01:02:04Z</dcterms:modified>
  <cp:revision>255</cp:revision>
  <dc:subject/>
  <dc:title>No Slide Title</dc:title>
</cp:coreProperties>
</file>